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F69-C38F-4BE4-B7CB-2298FADF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D3F-0310-49F1-96F8-9A859903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DE3-AEEF-4BC1-B3E2-60E35E79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78D-0903-4408-8BF9-75E7FA65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6B0-E7EF-4FDE-AC75-4CF08D8E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3DA-53DC-494B-9E8B-949C254C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528-2143-4587-823C-0E7E689B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932-DAE3-41A1-903B-6B0CF2FB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9277-2254-4269-9C9A-46F2BFCD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0FE-259E-4FC2-BD7D-64209B79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104-44B2-4E8A-8416-9D4C968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70A-6634-47E8-8FDE-4226C143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6709-FC1D-4F9D-8435-632AB63F11E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4320" y="1471680"/>
            <a:ext cx="8708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69720" y="5805360"/>
            <a:ext cx="8569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هداية بي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خطاب : للنبي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71355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368360" y="2492280"/>
            <a:ext cx="752472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1359000" y="4149720"/>
            <a:ext cx="753408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357336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حريم لعن المؤ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163980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د من رح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374"/>
          <a:stretch/>
        </p:blipFill>
        <p:spPr>
          <a:xfrm>
            <a:off x="476280" y="2349360"/>
            <a:ext cx="8191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7040" y="4976640"/>
            <a:ext cx="3505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صفات السعداء ذكر هنا صفات الأشقي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364000" y="912960"/>
            <a:ext cx="3569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429400" cy="31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-15840" y="911160"/>
            <a:ext cx="9139320" cy="862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72880" y="468792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جع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057480" y="1190520"/>
            <a:ext cx="417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أشقيا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كفر سبب الطرد من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حمة الله والهلاك في جهن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عز وجل هو المعطي المانع يعطي ويمن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يعطي الدني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حب ومن لا يح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بسط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ر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بض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ا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ى المؤمن تجاه ما أُعطي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ضى والتسليم والقناع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هداية والضلال بيد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508464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دم جواز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هذا من جنس حجة الكفار وهي حجة داحضة لا تف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نقضون 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قطع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فسدون في الأر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رح بالحياة الدنيا عن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ؤمنون بما جاء به الرسل من عن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070520" y="942840"/>
            <a:ext cx="4749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6T18:13:23Z</dcterms:modified>
  <cp:revision>2087</cp:revision>
  <dc:subject/>
  <dc:title>عرض تقديمي في PowerPoint</dc:title>
</cp:coreProperties>
</file>